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77385-975F-4D05-854F-13FF02CC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B7401-8D93-48C8-9D8E-B92E246C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712A-618D-404C-8D4F-8A4F1471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EFD1-475F-42C8-989D-427D7417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0D52-9401-4E59-9B4E-4B74D368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F25D-4EF0-4414-97E7-C83C4D38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9B6D-B1B2-422D-9BFC-F1DAC2A5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3FE1-F27C-4B4A-AB34-2CF37788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6C07-7126-47B2-8C32-371C45AA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5E0A-5993-4796-A39A-D958A090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8E63-C3C6-4D73-A32D-A639B67F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364B5-D5D1-4381-BB81-FA623F1C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CEAC-6A05-4B88-8C17-F6992497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BD90-C0FD-4CE3-9C66-4B397DA8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7CF2-0287-48DE-B4A0-A7C5CF1A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88BC-1793-4AF6-BDB6-36F4EB2B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FD52-ED41-4F60-8D76-A6BB8B15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153D0-760E-4403-8B04-03E1A96D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E6F9F-2739-41CD-9CA1-950E0141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2ACDF-0F4B-4447-9553-5EA717D8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24B5-7915-48AF-8982-57682CCA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5BEE2-92D3-44E6-8A05-5CFA4487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513D-16CF-4808-B23E-56B0253D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FD4C5-C545-49E9-B4A0-E827DA6F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A1295-59F5-4631-8C23-FF378B54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93E84-0BFD-4E1A-8498-5FF501C8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A3D9B-F0EE-473E-97AE-EA441D68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6BE29-2946-4093-8A46-A60B96BB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7A9FF-2832-4B65-833C-27337EBF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E06DD-4A9F-4930-9F41-DDB30130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D5A0E-7287-4558-BC15-E51D69CD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5C83F-DCB6-45AA-AD40-2302434F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20ACB-47FD-4305-9469-8ED31986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D43B-C287-40D6-846C-76F7FD2E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308BB-83D0-44F5-B0BE-9235581D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21F4C-83D7-47E2-8D08-DFAABEDB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42E94-1177-4DE2-8E9A-6638F4D9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529C6-4015-4AE0-B65C-B2791212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89537-4059-464D-B60A-0BF17667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6F9DF-496D-4C24-8E38-F3C8B36A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8A777-439A-4055-B950-4365DB27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1C9A9-83B0-4262-88F1-DB4C7AF0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28D84-38D6-4C11-B5B5-0DAB4D65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85426-DDBD-4A7E-84BF-1C0A98F6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25D2-5D8A-48A3-A9D5-930EF7BA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5C372-56DF-4C6F-A856-075A314D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08815-9535-4DED-816C-AFB5E869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C3DA6-7FCA-4F38-B315-6567CB79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E56C-6380-40FE-B83A-ECC5875C00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BED2-AD7F-412B-9880-D7ACF59FDF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0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A76B-43DF-4E0D-9213-2AEDB0DEC6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A3A2-D42E-4DA9-A9B9-A744B8AE2C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Зелёный свет мечты и надежды(по рассказу А.Грина «Зелёная лампа»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Arial"/>
              </a:rPr>
              <a:t>Чем стала для Ива зелёная лампа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ля 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елёная лампа стала источником света, для осуществления своей мечты, она осветила ему путь в будуще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7451640" y="5734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Arial"/>
              </a:rPr>
              <a:t>Информационные ресурсы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ик  для 8 класса общественных учреждени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.И. Беленький-М., «Просвещение», 1998 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Я. Коровина.  Уроки литературы 8кл.Уроки для учителя –М., «Просвещение», 2002 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Александр Степанович Грин(1880-1932)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84280" y="1628640"/>
            <a:ext cx="367344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Содержание.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иография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 А.Гр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а рассказа А.Грина «Зелёная ламп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Идея рассказ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символизирует зелёная ламп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м была зелёная лампа для Стильтон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м стала зелёная лампа для Джона Ив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804000" y="4076640"/>
            <a:ext cx="2089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Детство А.Грин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лександр Гринёв родился в городке Слободской Вятской губернии . Рос мечтательным , нетерпеливым мальчиком. Учился плохо ,но любил читать. В 16 лет он покинул семью и началась взрослая жизн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">
            <a:hlinkClick r:id="" action="ppaction://hlinkshowjump?jump=previousslide"/>
          </p:cNvPr>
          <p:cNvSpPr/>
          <p:nvPr/>
        </p:nvSpPr>
        <p:spPr>
          <a:xfrm>
            <a:off x="8317080" y="6353280"/>
            <a:ext cx="502920" cy="50472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3794" y="10839"/>
                </a:moveTo>
                <a:lnTo>
                  <a:pt x="17806" y="3832"/>
                </a:lnTo>
                <a:lnTo>
                  <a:pt x="17806" y="1784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Творчество А.Грина.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ин появился впервые под рассказом «Случай» в петербургской газете «Товарищ». При жизни писателя было опубликовано 450 произведе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7667640" y="5734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Тема рассказа А.Грина «Зелёная лампа»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дивительная судьба бродяги Ива, ставшего знаменитым врачом и обеспеченным человеком ,и  жизненное падение богача Стильто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Идея рассказ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т, кто имеет перед собой высокую цель, может стать хозяином своей судьб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7164360" y="6237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Что символизирует зелёная ламп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Зелёная ламп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это символ веры в безграничные возможности человека, в оправданность его стремления к осуществлению мечты, символ надежды, символ света и добр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6588000" y="5877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Чем была зелёная лампа для Стильтона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Для Стильто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это возможность проявить свое превосходство ,преимущество, подчеркнуть презрение к людя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7236000" y="587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0:27:40Z</dcterms:created>
  <dc:creator>студент</dc:creator>
  <dc:description/>
  <dc:language>en-US</dc:language>
  <cp:lastModifiedBy>Миша</cp:lastModifiedBy>
  <dcterms:modified xsi:type="dcterms:W3CDTF">2010-04-18T13:00:57Z</dcterms:modified>
  <cp:revision>10</cp:revision>
  <dc:subject/>
  <dc:title>Зеленый свет мечты и надежды(по рассказу А.Грина «Зеленая лампа»)</dc:title>
</cp:coreProperties>
</file>